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A6237-9EC4-4C39-B356-AE9E4B416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A9A33-9285-4682-866B-70877FC3E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13C3A-8A17-4055-B07E-19A9F43A5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1BC65-CDB9-4B41-A557-CE46B0FFD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5EECE-9CEE-47FC-8706-7BED93361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225C8-3EEF-41D8-AA95-5E0B75A62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5D79A-E589-4222-B946-8E2347022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8251F-AAEE-4A4F-B275-4DFFDB60B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1CEFD-4BC5-471E-B8D8-413CD2598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17494-8C87-4573-BC38-1CF39BBC7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1EC85-3866-4AAE-9EF3-C41146F62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D9E7F-3201-49F9-9EE6-226320BCE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E1EAD-0E85-4E9E-98AB-4B0E21E3C88D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ntique Olive Compact"/>
              </a:rPr>
              <a:t>Oszillosko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800" spc="-1" strike="noStrike">
                <a:solidFill>
                  <a:srgbClr val="000000"/>
                </a:solidFill>
                <a:latin typeface="Garamond"/>
                <a:ea typeface="SimSun"/>
              </a:rPr>
              <a:t>Was ist ein Oszilloskop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800" spc="-1" strike="noStrike">
                <a:solidFill>
                  <a:srgbClr val="000000"/>
                </a:solidFill>
                <a:latin typeface="Garamond"/>
                <a:ea typeface="SimSun"/>
              </a:rPr>
              <a:t>Wozu wird es benutz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800" spc="-1" strike="noStrike">
                <a:solidFill>
                  <a:srgbClr val="000000"/>
                </a:solidFill>
                <a:latin typeface="Garamond"/>
                <a:ea typeface="SimSun"/>
              </a:rPr>
              <a:t>Wie sieht ein Oszilloskop  und dessen inneren Aufbau  au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800" spc="-1" strike="noStrike">
                <a:solidFill>
                  <a:srgbClr val="000000"/>
                </a:solidFill>
                <a:latin typeface="Garamond"/>
                <a:ea typeface="SimSun"/>
              </a:rPr>
              <a:t>Arten von Oszilloskop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800" spc="-1" strike="noStrike">
                <a:solidFill>
                  <a:srgbClr val="000000"/>
                </a:solidFill>
                <a:latin typeface="Garamond"/>
                <a:ea typeface="SimSun"/>
              </a:rPr>
              <a:t>Innerer Aufbau eines Oszilloskop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800" spc="-1" strike="noStrike">
                <a:solidFill>
                  <a:srgbClr val="000000"/>
                </a:solidFill>
                <a:latin typeface="Garamond"/>
                <a:ea typeface="SimSun"/>
              </a:rPr>
              <a:t>Funktionsweise des Oszilloskop(Elektronenstrahler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800" spc="-1" strike="noStrike">
                <a:solidFill>
                  <a:srgbClr val="000000"/>
                </a:solidFill>
                <a:latin typeface="Garamond"/>
                <a:ea typeface="SimSun"/>
              </a:rPr>
              <a:t>Einige Begriffe mit kurzanleitu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ntique Olive Compact"/>
              </a:rPr>
              <a:t>Oszillosko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800" spc="-1" strike="noStrike">
                <a:solidFill>
                  <a:srgbClr val="000000"/>
                </a:solidFill>
                <a:latin typeface="Antique Olive Compact"/>
              </a:rPr>
              <a:t>Was ist ein Oszilloskop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800" spc="-1" strike="noStrike">
                <a:solidFill>
                  <a:srgbClr val="000000"/>
                </a:solidFill>
                <a:latin typeface="Antique Olive Roman"/>
              </a:rPr>
              <a:t>Ein Oszilloskop ist ein elektronisches  Gerät  zur Darstellung von Spannung über ihren zeitlichen Verlauf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800" spc="-1" strike="noStrike">
                <a:solidFill>
                  <a:srgbClr val="000000"/>
                </a:solidFill>
                <a:latin typeface="Antique Olive Roman"/>
              </a:rPr>
              <a:t>d.h. es werden die physikalischen Größen Spannung und Zeit gemessen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800" spc="-1" strike="noStrike">
                <a:solidFill>
                  <a:srgbClr val="000000"/>
                </a:solidFill>
                <a:latin typeface="Antique Olive Compact"/>
              </a:rPr>
              <a:t>Wozu wird es benutz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ntique Olive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800" spc="-1" strike="noStrike">
                <a:solidFill>
                  <a:srgbClr val="000000"/>
                </a:solidFill>
                <a:latin typeface="Antique Olive Roman"/>
              </a:rPr>
              <a:t>Ein universelles Messgerät für Ströme (indirekt durch das Ohmsche Gesetz) und Spannung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ntique Olive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800" spc="-1" strike="noStrike">
                <a:solidFill>
                  <a:srgbClr val="000000"/>
                </a:solidFill>
                <a:latin typeface="Antique Olive Roman"/>
              </a:rPr>
              <a:t> </a:t>
            </a:r>
            <a:r>
              <a:rPr b="1" i="1" lang="de-DE" sz="1800" spc="-1" strike="noStrike">
                <a:solidFill>
                  <a:srgbClr val="000000"/>
                </a:solidFill>
                <a:latin typeface="Antique Olive Roman"/>
              </a:rPr>
              <a:t>Instrument zum Sichtbarmachen des Zeitverlaufes von Messgrössen und Signalen verschiedener Formen und Phasenlage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ntique Olive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800" spc="-1" strike="noStrike">
                <a:solidFill>
                  <a:srgbClr val="000000"/>
                </a:solidFill>
                <a:latin typeface="Antique Olive Roman"/>
              </a:rPr>
              <a:t>Frequenz eines Signa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ntique Olive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ntique Olive Roman"/>
              </a:rPr>
              <a:t>Phasenverschiebung eines Signa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ntique Olive Compact"/>
              </a:rPr>
              <a:t>Oszillosko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1484280"/>
            <a:ext cx="889308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ntique Olive Compact"/>
              </a:rPr>
              <a:t>Oszillosko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ntique Olive Co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ntique Olive Compact"/>
              </a:rPr>
              <a:t>Arten von Oszilloskope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ntique Olive Compact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Antique Olive Compact"/>
              </a:rPr>
              <a:t>Analog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ntique Olive Roman"/>
              </a:rPr>
              <a:t>     </a:t>
            </a:r>
            <a:r>
              <a:rPr b="1" lang="de-DE" sz="1800" spc="-1" strike="noStrike">
                <a:solidFill>
                  <a:srgbClr val="000000"/>
                </a:solidFill>
                <a:latin typeface="Antique Olive Roman"/>
              </a:rPr>
              <a:t>Bei analogen Oszilloskopen wird das darzustellende Signal nach der Verstärkung direkt zur Ablenkung eines Elektronenstrahls verwend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ntique Olive Compact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Antique Olive Compact"/>
              </a:rPr>
              <a:t>Digita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800" spc="-1" strike="noStrike">
                <a:solidFill>
                  <a:srgbClr val="000000"/>
                </a:solidFill>
                <a:latin typeface="Antique Olive Roman"/>
              </a:rPr>
              <a:t>   </a:t>
            </a:r>
            <a:r>
              <a:rPr b="1" i="1" lang="de-DE" sz="1800" spc="-1" strike="noStrike">
                <a:solidFill>
                  <a:srgbClr val="000000"/>
                </a:solidFill>
                <a:latin typeface="Antique Olive Roman"/>
              </a:rPr>
              <a:t>Ein digitales Oszilloskop digitalisiert das Eingangssignal mit einem Analog-Digital-Wandler und legt die Werte in einem Speicher a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800" spc="-1" strike="noStrike">
                <a:solidFill>
                  <a:srgbClr val="000000"/>
                </a:solidFill>
                <a:latin typeface="Antique Olive Roman"/>
              </a:rPr>
              <a:t>   </a:t>
            </a:r>
            <a:r>
              <a:rPr b="1" i="1" lang="de-DE" sz="1800" spc="-1" strike="noStrike">
                <a:solidFill>
                  <a:srgbClr val="000000"/>
                </a:solidFill>
                <a:latin typeface="Antique Olive Roman"/>
              </a:rPr>
              <a:t>Heute werden vermehrt digitale Oszilloskope verwendet, da so die Daten auch nach der Messung zur Verfügung stehen und leicht auf einen PC  übertragen werden können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ntique Olive Compact"/>
              </a:rPr>
              <a:t>Oszillosko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ntique Olive Co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800" spc="-1" strike="noStrike">
                <a:solidFill>
                  <a:srgbClr val="000000"/>
                </a:solidFill>
                <a:latin typeface="Antique Olive Compact"/>
              </a:rPr>
              <a:t>Innerer Aufbau &amp; Funktionsweise eines Oszilloskop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Brownsche Röhre"/>
          <p:cNvPicPr/>
          <p:nvPr/>
        </p:nvPicPr>
        <p:blipFill>
          <a:blip r:embed="rId1"/>
          <a:stretch/>
        </p:blipFill>
        <p:spPr>
          <a:xfrm>
            <a:off x="755640" y="2421000"/>
            <a:ext cx="7201080" cy="28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ntique Olive Compact"/>
              </a:rPr>
              <a:t>Oszillosko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 u="sng">
                <a:solidFill>
                  <a:srgbClr val="000000"/>
                </a:solidFill>
                <a:uFillTx/>
                <a:latin typeface="Antique Olive Compact"/>
              </a:rPr>
              <a:t>Funktionsweise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ntique Olive Compac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000" spc="-1" strike="noStrike">
                <a:solidFill>
                  <a:srgbClr val="000000"/>
                </a:solidFill>
                <a:latin typeface="Antique Olive Compact"/>
              </a:rPr>
              <a:t>Anzeigemediu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ntique Olive Compac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000" spc="-1" strike="noStrike">
                <a:solidFill>
                  <a:srgbClr val="000000"/>
                </a:solidFill>
                <a:latin typeface="Antique Olive Compact"/>
              </a:rPr>
              <a:t>Zeitablenku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ntique Olive Compac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000" spc="-1" strike="noStrike">
                <a:solidFill>
                  <a:srgbClr val="000000"/>
                </a:solidFill>
                <a:latin typeface="Antique Olive Compact"/>
              </a:rPr>
              <a:t>Betriebsarten der Spannungsmessu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000" spc="-1" strike="noStrike">
                <a:solidFill>
                  <a:srgbClr val="000000"/>
                </a:solidFill>
                <a:latin typeface="Antique Olive Compact"/>
              </a:rPr>
              <a:t>      </a:t>
            </a:r>
            <a:r>
              <a:rPr b="1" i="1" lang="de-DE" sz="2000" spc="-1" strike="noStrike">
                <a:solidFill>
                  <a:srgbClr val="000000"/>
                </a:solidFill>
                <a:latin typeface="Antique Olive Compact"/>
              </a:rPr>
              <a:t>Alternat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000" spc="-1" strike="noStrike">
                <a:solidFill>
                  <a:srgbClr val="000000"/>
                </a:solidFill>
                <a:latin typeface="Antique Olive Compact"/>
              </a:rPr>
              <a:t>       </a:t>
            </a:r>
            <a:r>
              <a:rPr b="1" i="1" lang="de-DE" sz="2000" spc="-1" strike="noStrike">
                <a:solidFill>
                  <a:srgbClr val="000000"/>
                </a:solidFill>
                <a:latin typeface="Antique Olive Compact"/>
              </a:rPr>
              <a:t>Chopp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000" spc="-1" strike="noStrike">
                <a:solidFill>
                  <a:srgbClr val="000000"/>
                </a:solidFill>
                <a:latin typeface="Antique Olive Compact"/>
              </a:rPr>
              <a:t>4.Triggeru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000" spc="-1" strike="noStrike">
                <a:solidFill>
                  <a:srgbClr val="000000"/>
                </a:solidFill>
                <a:latin typeface="Antique Olive Compact"/>
              </a:rPr>
              <a:t>                      </a:t>
            </a:r>
            <a:r>
              <a:rPr b="1" i="1" lang="de-DE" sz="2000" spc="-1" strike="noStrike">
                <a:solidFill>
                  <a:srgbClr val="000000"/>
                </a:solidFill>
                <a:latin typeface="Antique Olive Compact"/>
              </a:rPr>
              <a:t>(Triggern bedeutet einfach Auslös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ntique Olive Compact"/>
              </a:rPr>
              <a:t>Begriffe mit  kurzanleitu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ntique Olive Compact"/>
              </a:rPr>
              <a:t>Oszillosko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000" spc="-1" strike="noStrike">
                <a:solidFill>
                  <a:srgbClr val="000000"/>
                </a:solidFill>
                <a:latin typeface="Antique Olive Compact"/>
              </a:rPr>
              <a:t>   </a:t>
            </a:r>
            <a:r>
              <a:rPr b="1" i="1" lang="de-DE" sz="2400" spc="-1" strike="noStrike" u="sng">
                <a:solidFill>
                  <a:srgbClr val="000000"/>
                </a:solidFill>
                <a:uFillTx/>
                <a:latin typeface="Antique Olive Compact"/>
              </a:rPr>
              <a:t>Einige Begriffe mit   Kurzanleitu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ntique Olive Compact"/>
              </a:rPr>
              <a:t>   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ntique Olive Compact"/>
              </a:rPr>
              <a:t>Inbetriebnahm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ntique Olive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600" spc="-1" strike="noStrike">
                <a:solidFill>
                  <a:srgbClr val="000000"/>
                </a:solidFill>
                <a:latin typeface="Antique Olive Roman"/>
              </a:rPr>
              <a:t>Alle Tasten haben sich in unbetätigtem Zustand zu befinden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ntique Olive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600" spc="-1" strike="noStrike">
                <a:solidFill>
                  <a:srgbClr val="000000"/>
                </a:solidFill>
                <a:latin typeface="Antique Olive Roman"/>
              </a:rPr>
              <a:t>Rot gekennzeichnete Drehknöpfe sind in ihre kalibrierte Stellung zu bringen</a:t>
            </a:r>
            <a:r>
              <a:rPr b="1" i="1" lang="de-DE" sz="1200" spc="-1" strike="noStrike">
                <a:solidFill>
                  <a:srgbClr val="000000"/>
                </a:solidFill>
                <a:latin typeface="Antique Olive Roman"/>
              </a:rPr>
              <a:t>.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ntique Olive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600" spc="-1" strike="noStrike">
                <a:solidFill>
                  <a:srgbClr val="000000"/>
                </a:solidFill>
                <a:latin typeface="Antique Olive Roman"/>
              </a:rPr>
              <a:t>Durch das Drehen an den Knöpfen für Helligkeit(Intens.) und Schärfe(Focus), lässt sich die Linie so verändern bis sie scharf abgebildet wird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ntique Olive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600" spc="-1" strike="noStrike">
                <a:solidFill>
                  <a:srgbClr val="000000"/>
                </a:solidFill>
                <a:latin typeface="Antique Olive Roman"/>
              </a:rPr>
              <a:t>Damit sich die Linie in der Bildschirmmitte befindet, sind die Drehknöpfe für horizontale(X-Pos.) und vertikale(Y-Pos.) Ablenkung entsprechend einzustellen. Dabei sollte der Signalartumschalter auf Ground-Stellung(GD) stehen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5T18:16:10Z</dcterms:created>
  <dc:creator>ahmedmug</dc:creator>
  <dc:description/>
  <dc:language>en-US</dc:language>
  <cp:lastModifiedBy>ahmedmug</cp:lastModifiedBy>
  <dcterms:modified xsi:type="dcterms:W3CDTF">2005-01-26T17:38:10Z</dcterms:modified>
  <cp:revision>5</cp:revision>
  <dc:subject/>
  <dc:title>Folie 1</dc:title>
</cp:coreProperties>
</file>