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B0CCE-0854-476F-B54D-32F5074B2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6B31-47B7-4B96-B1E4-B93B9F6D6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EA344-1289-47D3-B0BB-D27856143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BA7D9-BE92-4157-A753-352DA524D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885B4-6BE0-483D-9BB8-072F0957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23C03-627F-4A3B-AA36-9D478B80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501A-D30F-4F60-9D7C-994CF2BA4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4E13E-779E-44E4-9F9D-96B6D48FC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B4F94-B80B-4C5D-8231-D0B39580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2C3CC-0B97-476B-90AC-20F0EAA5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BC039-82C3-4BDA-A2A9-0B3DA769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448E-1ACF-4DC1-A12C-22944DE50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D1E9-7302-4C82-9D4B-1B967B26A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Mein Referat</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sverstärker</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danzwandler</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tärkung : A=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 dieser Schaltung ist das Ausgangssignal noch etwas niederohmiger als beim Elektrometerverstärker</a:t>
            </a:r>
            <a:endParaRPr b="0" lang="en-US" sz="2800" spc="-1" strike="noStrike">
              <a:solidFill>
                <a:srgbClr val="000000"/>
              </a:solidFill>
              <a:latin typeface="Times New Roman"/>
            </a:endParaRPr>
          </a:p>
        </p:txBody>
      </p:sp>
      <p:sp>
        <p:nvSpPr>
          <p:cNvPr id="64" name=""/>
          <p:cNvSpPr/>
          <p:nvPr/>
        </p:nvSpPr>
        <p:spPr>
          <a:xfrm>
            <a:off x="3489480" y="19890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op_impedanzwandler" descr="Impedanzwandler"/>
          <p:cNvPicPr/>
          <p:nvPr/>
        </p:nvPicPr>
        <p:blipFill>
          <a:blip r:embed="rId2"/>
          <a:stretch/>
        </p:blipFill>
        <p:spPr>
          <a:xfrm>
            <a:off x="4648320" y="2847960"/>
            <a:ext cx="3809880" cy="238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tierender Verstärker</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ngangswiderstand : R1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gangsspannung :  Ua = -R2/R1 * 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tärkung:                             A= -R2/R1                 </a:t>
            </a:r>
            <a:endParaRPr b="0" lang="en-US" sz="2800" spc="-1" strike="noStrike">
              <a:solidFill>
                <a:srgbClr val="000000"/>
              </a:solidFill>
              <a:latin typeface="Times New Roman"/>
            </a:endParaRPr>
          </a:p>
        </p:txBody>
      </p:sp>
      <p:sp>
        <p:nvSpPr>
          <p:cNvPr id="68" name=""/>
          <p:cNvSpPr/>
          <p:nvPr/>
        </p:nvSpPr>
        <p:spPr>
          <a:xfrm>
            <a:off x="3260880" y="19890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op_inverter" descr="Invertierender Verstärker"/>
          <p:cNvPicPr/>
          <p:nvPr/>
        </p:nvPicPr>
        <p:blipFill>
          <a:blip r:embed="rId1"/>
          <a:stretch/>
        </p:blipFill>
        <p:spPr>
          <a:xfrm>
            <a:off x="4572000" y="2743200"/>
            <a:ext cx="380988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omparator</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n Komparator ist ein integrierter Baustein , der überwiegend zum Spannungsvergleich dien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uert man den OPV ohne äußere Gegenkopplung bis an die Sättigungsspannung durch, so arbeitet er als Schal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 = + Ub bei Ue &lt; Ureff</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a = - Ub bei Ue &gt; Ureff</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2"/>
          <a:stretch/>
        </p:blipFill>
        <p:spPr>
          <a:xfrm>
            <a:off x="4724280" y="2286000"/>
            <a:ext cx="44197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53542"/>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mitt – Trigger </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mitt – Trigger sind bistabile Schaltunge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e Rückkopplung ist eine Mitkopplung. Dadurch kann die Ausgangsspannung nur zwischen den Aussteuergrenzen +Uamax und – Uamax springen.</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ch die Rückkopplung entstehen für die Eingangsspannung nur zwei Schwelle,die ein Umschalten der Ausgangsspannung bewirken.Nach dem Durchlaufen einer Schwelle muss erst die andere Schwelle durchlaufen werden,um ein erneutes Umschalten zu erreichen.Schmitt – Trigger werden zum einem in Zweipunkt Reglern eingesetzt, zum anderen anstelle von Komparatoren , um ein Mehrfachumschalten  bei gestörten Eingangssignalen zu vermeiden</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75" name="" descr=""/>
          <p:cNvPicPr/>
          <p:nvPr/>
        </p:nvPicPr>
        <p:blipFill>
          <a:blip r:embed="rId1">
            <a:biLevel thresh="50000"/>
          </a:blip>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Anwendungsgebiete für die Operationsverstärker</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nalogtechnik:  Addierer , Differenzier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teuerungs- und Regelungstechnik : Komparator , I-Regl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Messtechnik : Amperemeter mit kleinem Innenwiderstand , Ohmmeter mit linearer Skal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iteraturen</a:t>
            </a:r>
            <a:br>
              <a:rPr sz="3200"/>
            </a:b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Operationsverstärker „Eigenschaften und    Anwendungen in linearen und nichtlinearen Schaltungen“Von H. Vahldi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Operationsverstärker  Praxis Von Nührma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Halbleiterschaltungstechnik  Von U. Tietze. Ch. Schen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ea typeface="Times New Roman"/>
              </a:rPr>
              <a:t>  </a:t>
            </a:r>
            <a:r>
              <a:rPr b="0" lang="de-DE" sz="2800" spc="-1" strike="noStrike">
                <a:solidFill>
                  <a:srgbClr val="000000"/>
                </a:solidFill>
                <a:latin typeface="Times New Roman"/>
                <a:ea typeface="Times New Roman"/>
              </a:rPr>
              <a:t>Skript Grundlagen der Elektrotechnik II „Analoge Schaltungstechni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2520" y="1311120"/>
            <a:ext cx="8960400" cy="4238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halt meines Referats</a:t>
            </a:r>
            <a:br>
              <a:rPr sz="2000"/>
            </a:br>
            <a:r>
              <a:rPr b="0" lang="en-US" sz="2000" spc="-1" strike="noStrike" u="sng">
                <a:solidFill>
                  <a:srgbClr val="000000"/>
                </a:solidFill>
                <a:uFillTx/>
                <a:latin typeface="Times New Roman"/>
              </a:rPr>
              <a:t>                                   </a:t>
            </a:r>
            <a:br>
              <a:rPr sz="2000"/>
            </a:br>
            <a:r>
              <a:rPr b="0" lang="en-US" sz="3200" spc="-1" strike="noStrike" u="sng">
                <a:solidFill>
                  <a:srgbClr val="000000"/>
                </a:solidFill>
                <a:uFillTx/>
                <a:latin typeface="Times New Roman"/>
              </a:rPr>
              <a:t>Allgemeines</a:t>
            </a:r>
            <a:br>
              <a:rPr sz="3200"/>
            </a:br>
            <a:r>
              <a:rPr b="0" lang="en-US" sz="2000" spc="-1" strike="noStrike">
                <a:solidFill>
                  <a:srgbClr val="000000"/>
                </a:solidFill>
                <a:latin typeface="Times New Roman"/>
              </a:rPr>
              <a:t>- Was ist  ein Operationsverstärkers?</a:t>
            </a:r>
            <a:br>
              <a:rPr sz="2000"/>
            </a:br>
            <a:r>
              <a:rPr b="0" lang="en-US" sz="2000" spc="-1" strike="noStrike">
                <a:solidFill>
                  <a:srgbClr val="000000"/>
                </a:solidFill>
                <a:latin typeface="Times New Roman"/>
              </a:rPr>
              <a:t>-  Woher kommt der Name Operationsverstärker?</a:t>
            </a:r>
            <a:br>
              <a:rPr sz="2000"/>
            </a:br>
            <a:r>
              <a:rPr b="0" lang="en-US" sz="3200" spc="-1" strike="noStrike" u="sng">
                <a:solidFill>
                  <a:srgbClr val="000000"/>
                </a:solidFill>
                <a:uFillTx/>
                <a:latin typeface="Times New Roman"/>
              </a:rPr>
              <a:t>Aufbau und Eigenschaften  des Operationsverstärkers</a:t>
            </a:r>
            <a:br>
              <a:rPr sz="2000"/>
            </a:br>
            <a:r>
              <a:rPr b="0" lang="en-US" sz="2000" spc="-1" strike="noStrike">
                <a:solidFill>
                  <a:srgbClr val="000000"/>
                </a:solidFill>
                <a:latin typeface="Times New Roman"/>
              </a:rPr>
              <a:t>-  Vergleich der Eigenschaften von idealen und realen Operationsverstärker</a:t>
            </a:r>
            <a:br>
              <a:rPr sz="2000"/>
            </a:br>
            <a:r>
              <a:rPr b="0" lang="en-US" sz="2000" spc="-1" strike="noStrike">
                <a:solidFill>
                  <a:srgbClr val="000000"/>
                </a:solidFill>
                <a:latin typeface="Times New Roman"/>
              </a:rPr>
              <a:t>- Schaltung des Operationsverstärkers und seine Bezeichnungen</a:t>
            </a:r>
            <a:br>
              <a:rPr sz="2000"/>
            </a:br>
            <a:br>
              <a:rPr sz="32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Grundschaltungen mit Operationsverstärkern</a:t>
            </a:r>
            <a:br>
              <a:rPr sz="2000"/>
            </a:br>
            <a:r>
              <a:rPr b="0" lang="en-US" sz="2000" spc="-1" strike="noStrike">
                <a:solidFill>
                  <a:srgbClr val="000000"/>
                </a:solidFill>
                <a:latin typeface="Times New Roman"/>
              </a:rPr>
              <a:t>- Elektrometer</a:t>
            </a:r>
            <a:br>
              <a:rPr sz="2000"/>
            </a:br>
            <a:r>
              <a:rPr b="0" lang="en-US" sz="2000" spc="-1" strike="noStrike">
                <a:solidFill>
                  <a:srgbClr val="000000"/>
                </a:solidFill>
                <a:latin typeface="Times New Roman"/>
              </a:rPr>
              <a:t>- Impedanzwandler</a:t>
            </a:r>
            <a:br>
              <a:rPr sz="2000"/>
            </a:br>
            <a:r>
              <a:rPr b="0" lang="en-US" sz="2000" spc="-1" strike="noStrike">
                <a:solidFill>
                  <a:srgbClr val="000000"/>
                </a:solidFill>
                <a:latin typeface="Times New Roman"/>
              </a:rPr>
              <a:t>- Komparator</a:t>
            </a:r>
            <a:br>
              <a:rPr sz="2000"/>
            </a:br>
            <a:r>
              <a:rPr b="0" lang="en-US" sz="2000" spc="-1" strike="noStrike">
                <a:solidFill>
                  <a:srgbClr val="000000"/>
                </a:solidFill>
                <a:latin typeface="Times New Roman"/>
              </a:rPr>
              <a:t>- Schmitt –Trigger</a:t>
            </a:r>
            <a:br>
              <a:rPr sz="2000"/>
            </a:br>
            <a:r>
              <a:rPr b="0" lang="en-US" sz="3200" spc="-1" strike="noStrike" u="sng">
                <a:solidFill>
                  <a:srgbClr val="000000"/>
                </a:solidFill>
                <a:uFillTx/>
                <a:latin typeface="Times New Roman"/>
              </a:rPr>
              <a:t>Anwendungsgebiete für die Operationsverstärker</a:t>
            </a:r>
            <a:br>
              <a:rPr sz="3200"/>
            </a:br>
            <a:r>
              <a:rPr b="0" lang="en-US" sz="3200" spc="-1" strike="noStrike" u="sng">
                <a:solidFill>
                  <a:srgbClr val="000000"/>
                </a:solidFill>
                <a:uFillTx/>
                <a:latin typeface="Times New Roman"/>
              </a:rPr>
              <a:t>Literaturen</a:t>
            </a:r>
            <a:br>
              <a:rPr sz="3200"/>
            </a:b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Times New Roman"/>
              </a:rPr>
              <a:t>Allgemeines</a:t>
            </a:r>
            <a:br>
              <a:rPr sz="6000"/>
            </a:br>
            <a:endParaRPr b="0" lang="en-US" sz="6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 ist  ein Operationsverstärk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her kommt der Name Operationsverstärker?</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Aufbau und Eigenschaften  des Operationsverstärkers</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e beide Ausgänge des Differenzverstärkers steuern die Treiberstufe in Emitterschaltung an , bestehend aus T3 und T4.</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3 verstärkt das Ausgangssignal von T1 und T4 das Ausgangssignal von T2. T3 arbeitet dabei auf T4 und T4 auf T3 als „Kollektorwiderstand“. Die beiden Ausgangssignale des Differenzverstärkers werden dadurch zu einem einzigen zusammengefasst , wobei sowohl eine Spannungs- als auch Stromverstärkung stattfindet.</a:t>
            </a:r>
            <a:endParaRPr b="0" lang="en-US" sz="1400" spc="-1" strike="noStrike">
              <a:solidFill>
                <a:srgbClr val="000000"/>
              </a:solidFill>
              <a:latin typeface="Times New Roman"/>
            </a:endParaRPr>
          </a:p>
          <a:p>
            <a:pPr marL="315360" indent="-3153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r Transistor T7 sorgt für einen kleinen Pegelversatz zwischen oberem und unterem Ausgang , der erforderlich ist , damit durch die Endtransistoren T5 und T6 ein kleiner Ruhestrom fließt .Dadurch vermeidet man eine tote Zone um den Nullpunkt.Die sich dadurch entsprechende tote Zone kann man dadurch umgehen , dass man mittels T7 eine entsprechende Vorspannung einstellt. Üblicherweise stellt man eine ganz geringfügig höhere Spannung ein ,damit sich ein geringer Ruhestrom einstellt. </a:t>
            </a:r>
            <a:endParaRPr b="0" lang="en-US" sz="1400" spc="-1" strike="noStrike">
              <a:solidFill>
                <a:srgbClr val="000000"/>
              </a:solidFill>
              <a:latin typeface="Times New Roman"/>
            </a:endParaRPr>
          </a:p>
        </p:txBody>
      </p:sp>
      <p:sp>
        <p:nvSpPr>
          <p:cNvPr id="50" name=""/>
          <p:cNvSpPr/>
          <p:nvPr/>
        </p:nvSpPr>
        <p:spPr>
          <a:xfrm>
            <a:off x="2403360" y="1303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op_prinzip" descr="Prinzipschaltbild eines Operationsverstaerkers"/>
          <p:cNvPicPr/>
          <p:nvPr/>
        </p:nvPicPr>
        <p:blipFill>
          <a:blip r:embed="rId1"/>
          <a:stretch/>
        </p:blipFill>
        <p:spPr>
          <a:xfrm>
            <a:off x="4648320" y="2666880"/>
            <a:ext cx="3809880" cy="239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op_schaltzeichen" descr="Schaltzeichen eines Operationsverstaerkers"/>
          <p:cNvPicPr/>
          <p:nvPr/>
        </p:nvPicPr>
        <p:blipFill>
          <a:blip r:embed="rId1"/>
          <a:stretch/>
        </p:blipFill>
        <p:spPr>
          <a:xfrm>
            <a:off x="2514600" y="1905120"/>
            <a:ext cx="3809880" cy="30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71718e"/>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5" name=""/>
          <p:cNvGraphicFramePr/>
          <p:nvPr/>
        </p:nvGraphicFramePr>
        <p:xfrm>
          <a:off x="1676520" y="228600"/>
          <a:ext cx="6095880" cy="5761080"/>
        </p:xfrm>
        <a:graphic>
          <a:graphicData uri="http://schemas.openxmlformats.org/drawingml/2006/table">
            <a:tbl>
              <a:tblPr/>
              <a:tblGrid>
                <a:gridCol w="2031840"/>
                <a:gridCol w="2032200"/>
                <a:gridCol w="2031840"/>
              </a:tblGrid>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dealer Operationsverstärker</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ame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ler Operationsverstärker</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0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ndl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ingangswidersta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 MΩ bei  bipolaren OPV</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ll</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ingangsruhestr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A bei bipolaren OPV</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ll Ω</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usgangswiderstand</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10 Ω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ndl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equenzbere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gt;100 MHz</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2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ll</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ffsetgrößen</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0,5 mV ,&lt;0,3nA</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ndl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emperaturdrift:</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t;0,5</a:t>
                      </a:r>
                      <a:r>
                        <a:rPr b="0" lang="de-DE" sz="1400" spc="-1" strike="noStrike">
                          <a:solidFill>
                            <a:srgbClr val="000000"/>
                          </a:solidFill>
                          <a:latin typeface="Symbol"/>
                          <a:ea typeface="Symbol"/>
                        </a:rPr>
                        <a:t></a:t>
                      </a:r>
                      <a:r>
                        <a:rPr b="0" lang="en-GB" sz="1400" spc="-1" strike="noStrike">
                          <a:solidFill>
                            <a:srgbClr val="000000"/>
                          </a:solidFill>
                          <a:latin typeface="Times New Roman"/>
                          <a:ea typeface="Times New Roman"/>
                        </a:rPr>
                        <a:t>V/°c</a:t>
                      </a:r>
                      <a:r>
                        <a:rPr b="0" lang="de-DE"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Null</a:t>
                      </a:r>
                      <a:r>
                        <a:rPr b="0" lang="de-DE"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Slewrat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s  über 600 V/</a:t>
                      </a: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ndl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eichtaktunterdrückung</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t;1x 10^6</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ndlich</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annungsverstärkung</a:t>
                      </a:r>
                      <a:r>
                        <a:rPr b="0" lang="en-US" sz="1400" spc="-1" strike="noStrike">
                          <a:solidFill>
                            <a:srgbClr val="000000"/>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0 ;für Betriebe &gt;=dB ohne Gegenkopplun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53542"/>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5400" spc="-1" strike="noStrike" u="sng">
                <a:solidFill>
                  <a:srgbClr val="000000"/>
                </a:solidFill>
                <a:uFillTx/>
                <a:latin typeface="Times New Roman"/>
              </a:rPr>
              <a:t>Grundschaltungen mit Operationsverstärkern</a:t>
            </a:r>
            <a:endParaRPr b="0" lang="en-US" sz="5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49495b"/>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ktrometerverstärker</a:t>
            </a:r>
            <a:br>
              <a:rPr sz="4400"/>
            </a:b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ngangswiderstand : unendlich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gangsspannung :  Ua =(R1+R2)/R2 * 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tärkung:        A=1+R1/R2                                                                                      </a:t>
            </a:r>
            <a:endParaRPr b="0" lang="en-US" sz="2800" spc="-1" strike="noStrike">
              <a:solidFill>
                <a:srgbClr val="000000"/>
              </a:solidFill>
              <a:latin typeface="Times New Roman"/>
            </a:endParaRPr>
          </a:p>
        </p:txBody>
      </p:sp>
      <p:sp>
        <p:nvSpPr>
          <p:cNvPr id="60" name=""/>
          <p:cNvSpPr/>
          <p:nvPr/>
        </p:nvSpPr>
        <p:spPr>
          <a:xfrm>
            <a:off x="3489480" y="17035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op_elektrometer" descr="Nichtinvertierender Verstärker"/>
          <p:cNvPicPr/>
          <p:nvPr/>
        </p:nvPicPr>
        <p:blipFill>
          <a:blip r:embed="rId1"/>
          <a:stretch/>
        </p:blipFill>
        <p:spPr>
          <a:xfrm>
            <a:off x="4800600" y="2286000"/>
            <a:ext cx="380988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23:53:33Z</dcterms:created>
  <dc:creator>Fransisca da Cunha</dc:creator>
  <dc:description/>
  <dc:language>en-US</dc:language>
  <cp:lastModifiedBy>Fransisca da Cunha</cp:lastModifiedBy>
  <dcterms:modified xsi:type="dcterms:W3CDTF">2004-11-22T19:26:38Z</dcterms:modified>
  <cp:revision>15</cp:revision>
  <dc:subject/>
  <dc:title>Mein Referat</dc:title>
</cp:coreProperties>
</file>