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6603-B0DB-413E-B8B1-CCCD865822E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2438-0901-4798-961E-1679F858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CEFF-0026-4C1B-B24A-9D54A14B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6706-6E47-4680-9568-1811770C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101D-6F62-4CD3-81B5-BC75BC9D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E041-5C81-4D1F-9C22-BBAD02CD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9E76-9D94-4C26-8C19-7A86207A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D3C8-EE56-4D14-834F-20956C01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14CF-D8D2-4A6D-B03D-DBFC7B54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BA80-5AD7-4FBB-B87C-97E9F414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7067-1D5D-45FB-A3BA-685A0520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7F7E-3DC9-4C30-955C-0AEC76D7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67E8-793B-413F-9B48-474F4345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1D76-A6DA-408D-9CCE-B2A914C3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59DD-6D5D-401A-AE04-632B72C9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C6F7-0DE0-466B-8FBF-478C3B96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FFD0-65D6-4F97-906F-147ECC67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861E-8871-495E-8D8E-366830AB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1B12-73C4-4A0A-9A9F-837B32C6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57AA-F884-4372-86CA-60B109F8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63DB-6185-46B5-90F8-A6543D98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72A1-74E3-4BE1-8E01-56286A97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7D4C-1A72-4E97-989C-6C3E6A1D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3DC5-0575-4850-94B3-03E5DD6C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4DF1-9289-469B-9808-40039C1C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9653-8B68-45D9-9878-1B73AA18D5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9347-5EB7-40EB-B0DD-AD3ADE4824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GRÜNE ELEKTRONIK</a:t>
            </a:r>
            <a:br>
              <a:rPr sz="5400"/>
            </a:b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-Technik und die Umwe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Elektronikschrott?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Zusammensetz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Verwert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Produkt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terial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ßnahme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WEEE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usammensetzung des E-Schrotts in Massenantei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468360" y="1844640"/>
            <a:ext cx="8229600" cy="4680000"/>
            <a:chOff x="468360" y="1844640"/>
            <a:chExt cx="8229600" cy="4680000"/>
          </a:xfrm>
        </p:grpSpPr>
        <p:pic>
          <p:nvPicPr>
            <p:cNvPr id="542" name="" descr=""/>
            <p:cNvPicPr/>
            <p:nvPr/>
          </p:nvPicPr>
          <p:blipFill>
            <a:blip r:embed="rId2"/>
            <a:stretch/>
          </p:blipFill>
          <p:spPr>
            <a:xfrm>
              <a:off x="468360" y="1844640"/>
              <a:ext cx="8229600" cy="46800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543" name=""/>
            <p:cNvSpPr txBox="1"/>
            <p:nvPr/>
          </p:nvSpPr>
          <p:spPr>
            <a:xfrm>
              <a:off x="468360" y="1844640"/>
              <a:ext cx="8229600" cy="468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Elektronikschrott?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Zusammensetz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Verwert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Produkt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terial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ßnahme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WEEE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usammensetzung des E-Schrotts in Massenantei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468360" y="1844640"/>
            <a:ext cx="8229600" cy="4680000"/>
            <a:chOff x="468360" y="1844640"/>
            <a:chExt cx="8229600" cy="4680000"/>
          </a:xfrm>
        </p:grpSpPr>
        <p:pic>
          <p:nvPicPr>
            <p:cNvPr id="547" name="" descr=""/>
            <p:cNvPicPr/>
            <p:nvPr/>
          </p:nvPicPr>
          <p:blipFill>
            <a:blip r:embed="rId2"/>
            <a:stretch/>
          </p:blipFill>
          <p:spPr>
            <a:xfrm>
              <a:off x="468360" y="1844640"/>
              <a:ext cx="8229600" cy="46800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548" name=""/>
            <p:cNvSpPr txBox="1"/>
            <p:nvPr/>
          </p:nvSpPr>
          <p:spPr>
            <a:xfrm>
              <a:off x="468360" y="1844640"/>
              <a:ext cx="8229600" cy="468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5940360" y="2205000"/>
            <a:ext cx="576360" cy="4320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308720" y="3933720"/>
            <a:ext cx="1152720" cy="935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Elektronikschrott?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Zusammensetz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Verwert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Produkt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terial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ßnahme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WEEE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611280" y="1303200"/>
            <a:ext cx="8137440" cy="536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Elektronikschrott?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Zusammensetz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Verwert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Produkt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terial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ßnahme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WEEE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684360" y="1201680"/>
            <a:ext cx="7920000" cy="543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Elektronikschrott?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Zusammensetz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Verwert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Produkt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terial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ßnahme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WEEE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ntage oder Schredder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erlegung in Baugruppen – Schadstoffentfracht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fährliche Bauteile,-grupp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cksilberhaltige Schal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densato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Ölgefüllte Te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tter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wermetal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CD – Anze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CKW in Kühlegerä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hlenquellen aus med. Gerä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Elektronikschrott?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Zusammensetzung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Verwertung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Produkt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terial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ßnahme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WEEE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meid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ederverwend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terverwend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ederverwer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terverwer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mische Verwer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sorg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848200" y="3881520"/>
            <a:ext cx="261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Elektronikschrott?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Zusammensetzung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Verwertung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Produkt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terial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ßnahme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WEEE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meid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ederverwend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terverwend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ederverwer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terverwer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mische Verwer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sorg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219640" y="2349360"/>
            <a:ext cx="360360" cy="1008360"/>
          </a:xfrm>
          <a:custGeom>
            <a:avLst/>
            <a:gdLst>
              <a:gd name="textAreaLeft" fmla="*/ 0 w 360360"/>
              <a:gd name="textAreaRight" fmla="*/ 129960 w 36036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0" y="27082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ktrecyc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076720" y="3573360"/>
            <a:ext cx="647640" cy="1584360"/>
          </a:xfrm>
          <a:custGeom>
            <a:avLst/>
            <a:gdLst>
              <a:gd name="textAreaLeft" fmla="*/ 0 w 647640"/>
              <a:gd name="textAreaRight" fmla="*/ 234000 w 647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848200" y="3881520"/>
            <a:ext cx="261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867280" y="4149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erialrecyc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Elektronikschrott?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Zusammensetzung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Verwert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Produktrecycling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terial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ßnahme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WEEE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mplettgerä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u – und Funktionsgrup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Elektronikschrott?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Zusammensetzung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Verwert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Produktrecycling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terial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ßnahme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WEEE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mplettgerä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aratur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Wiederverkau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altete Geräte für einfache Aufgaben einsetz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xport funktionstüchtiger Geräte in Entwicklungslä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teil: umweltentlastende Eigenschaften kommen nicht zum tragen (Stromverbrau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u – und Funktionsgrup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Elektronikschrott?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Zusammensetzung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Verwert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Produktrecycling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terial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ßnahme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WEEE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mplettgerä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arati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Wiederverkau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altete Geräte für einfache Aufgaben einsetz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xport funktionstüchtiger Geräte in Entwicklungslä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teil: umweltentlastende Eigenschaften kommen nicht zum tragen (Stromverbrau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u – und Funktionsgrup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hkenntnisse notwen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nsatz in neuen Geräten (z.B. Lüfter, Box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nsatz in No-name Produk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chteil: Kostenaufwand beim Ausbau vs. Neuproduktion (Chi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Übersicht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 zum Schut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ist Elektronikschrot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usammensetzung E-Schrot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wert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ktre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recycling (Leiterplat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weltschutzmaßnah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urn to Sender (WEE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rialvorschriften 2006 (ROH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Elektronikschrott?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Zusammensetzung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Verwert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Produkt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Materialrecycling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ßnahme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WEEE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recycling am Beispiel Leiterplat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fast jeden Gerät vorha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hr viele verschiedene Materialen auch wenn Platte nur ca. 3% des Gesamtgewich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lgewinnung, z.B. hoher Goldanteil in älteren Plati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Elektronikschrott?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Zusammensetzung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Verwert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Produkt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Materialrecycling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ßnahme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WEEE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recycling am Beispiel Leiterplat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fast jeden Gerät vorha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hr viele verschiede Materialen auch wenn Platte nur ca. 3% des Gewich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lgewinnung, z.B. hoher Goldanteil in älteren Platin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uteile in Massenante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1157400" y="3943440"/>
            <a:ext cx="7014960" cy="219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Elektronikschrott?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Zusammensetzung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Verwert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Produkt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Materialrecycling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ßnahme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WEEE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zusammensetzung einer Leiterplatte in Massenantei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7993080" cy="421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ycling dur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sche Verfa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melzverfa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yrolyse (ebenfalls thermische Zerstöru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metallurgische Verfa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→ Elektronikschrott? → Zusammensetzung</a:t>
            </a:r>
            <a:r>
              <a:rPr b="1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→ Verwertung → Produktrecycling →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Materialrecycling</a:t>
            </a: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→ Maßnahmen → WEEE →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ycling dur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sche Verfa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erkleiner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Sortierung nach Material (Schadstoffseparation vorher nicht mögli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melzverfa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i 1250°C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Metalle bleiben, Kunstoffen verbren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yrolyse (ebenfalls thermische Zerstöru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chteil: Abluftbeeinträchtigu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metallurgische Verfa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erkleineru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Metalle durch Lösungs-, Ätzmittel gewin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→ Elektronikschrott? → Zusammensetzung</a:t>
            </a:r>
            <a:r>
              <a:rPr b="1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→ Verwertung → Produktrecycling →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Materialrecycling</a:t>
            </a: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→ Maßnahmen → WEEE →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→ Elektronikschrott? → Zusammensetzung</a:t>
            </a:r>
            <a:r>
              <a:rPr b="1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→ Verwertung → Produktrecycling → Materialrecycling →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Maßnahmen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→ WEEE →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aßnahmen zum umweltfreundlichen Produkrecyc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ntfernung und Entsorgung von FCK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ltöl (u.U. PCB haltig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tterien dem Kreislauf zurückfüh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ondensatoren, vor 1980 PCB haltig → Sondermüll, Unterscheidung schwier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cksilberschalter  → Sondermü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uchtmittel entfernen (Leuchtstoffe sowie Beschichtungen sind Sondermü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ammschutzhemmer (Platinen) u.U. krebserreg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nbeschichtung (Kopierer, Drucker) u.U. krebserreg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→ Elektronikschrott? → Zusammensetzung</a:t>
            </a:r>
            <a:r>
              <a:rPr b="1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→ Verwertung → Produktrecycling → Materialrecycling → Maßnahmen →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WEEE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→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urn to S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: immer mehr E-Geräte auf dem Markt; ca. 1Milliarde Rechner weltweit, pro Jahr 130 Mio. neue Rechn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→ Elektronikschrott? → Zusammensetzung</a:t>
            </a:r>
            <a:r>
              <a:rPr b="1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→ Verwertung → Produktrecycling → Materialrecycling → Maßnahmen →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WEEE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→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urn to S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: immer mehr E-Geräte auf dem Markt; ca. 1Milliarde Rechner weltweit, pro Jahr 130 Mio. ne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rreit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.B. Apple - kostenlose Recycling, nur Versandkosten (Eppishaus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jitsu-Siemens – Recyclingwerk (Paderbor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→ Elektronikschrott? → Zusammensetzung</a:t>
            </a:r>
            <a:r>
              <a:rPr b="1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→ Verwertung → Produktrecycling → Materialrecycling → Maßnahmen →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WEEE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→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 13.08.2005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t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trical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tronical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pment  in Kraft (EU-Gesetz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→ Elektronikschrott? → Zusammensetzung</a:t>
            </a:r>
            <a:r>
              <a:rPr b="1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→ Verwertung → Produktrecycling → Materialrecycling → Maßnahmen →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WEEE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→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 13.08.2005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t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trical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tronical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pment in Kraft (EU-Gesetz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al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eder „Inverkehrbringer“ muss seine Geräte zurück nehm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Motivation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Elektronikschrott?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Zusammensetz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Verwert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Produkt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terial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ßnahme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WEEE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minderung der Umweltauswirk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n finden zu bisherigen Entsorgungswegen (Haus-, Gewerbemü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fährdungspotential verringern, Verwertungsquote steig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→ Elektronikschrott? → Zusammensetzung</a:t>
            </a:r>
            <a:r>
              <a:rPr b="1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→ Verwertung → Produktrecycling → Materialrecycling → Maßnahmen →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WEEE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→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 13.08.2005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t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trical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tronical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pment in Kraft (EU-Gesetz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al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eder „Inverkehrbringer“ muss seine Geräte zurück nehm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e Firmen müssen sich an der Entsorgung historischer Altgeräte beteilig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→ Elektronikschrott? → Zusammensetzung</a:t>
            </a:r>
            <a:r>
              <a:rPr b="1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→ Verwertung → Produktrecycling → Materialrecycling → Maßnahmen →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WEEE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→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 13.08.2005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t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trical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tronical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pment in Kraft (EU-Gesetz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al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eder „Inverkehrbringer“ muss seine Geräte zurück nehm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e Firmen müssen sich an der Entsorgung historischer Altgeräte beteilig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iwilliger Zusammenschluss der Wirtschaft (120 Hersteller/Importeure) in 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rechnet Marktanteile der Hersteller und weist Altgeräteanteil zu (Waisengeräte, Nona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→ Elektronikschrott? → Zusammensetzung</a:t>
            </a:r>
            <a:r>
              <a:rPr b="1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→ Verwertung → Produktrecycling → Materialrecycling → Maßnahmen →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WEEE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→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 13.08.2005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t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trical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tronical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pment in Kraft (EU-Gesetz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al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eder „Inverkehrbringer“ muss seine Geräte zurück nehm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e Firmen müssen sich an der Entsorgung historischer Altgeräte beteilig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iwilliger Zusammenschluss der Wirtschaft (120 Hersteller/Importeure) in 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rechnet Marktanteile der Hersteller und weist Altgeräteanteil zu (Waisengeräte, Nona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ätestens 2006: 4kg pro Jahr und Einwohner vom Hersteller zurückzuneh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→ Elektronikschrott? → Zusammensetzung</a:t>
            </a:r>
            <a:r>
              <a:rPr b="1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→ Verwertung → Produktrecycling → Materialrecycling → Maßnahmen → WEEE →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ROHS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icti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ardou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 Juli 2006 gült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bot von gewissen Stoff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ifrei! (Lötverbindungen). Außerdem niedrige Werte für Quecksilber, Kadmium, sechswertiges Chrom, polybromierte Biphenyl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→ Elektronikschrott? → Zusammensetzung</a:t>
            </a:r>
            <a:r>
              <a:rPr b="1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→ Verwertung → Produktrecycling → Materialrecycling → Maßnahmen → WEEE →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ROHS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nahmen: medizinische Geräte, Überwachungs-, Kontrollgeräte, sowie militärische Gerä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Symbol für die getrennte Sammlung von Elektro- und Elektronikgeräten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16360" y="1600200"/>
            <a:ext cx="3389040" cy="413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Motivation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Elektronikschrott?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Zusammensetz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Verwert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Produkt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terial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ßnahme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WEEE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minderung der Umweltauswirk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n finden zu bisherigen Entsorgungswegen (Haus-, Gewerbemü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fährdungspotential verringern, Verwertungsquote steig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ktion recyclingfreundlicher gestall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üllexport sto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chgerechte Behandlu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Elektronikschrott?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Zusammensetz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Verwert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Produkt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terial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ßnahme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WEEE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gangsprachlich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utsche Gesetzgebu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Elektronikschrott?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Zusammensetz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Verwert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Produkt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terial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ßnahme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WEEE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gangsprachlich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enverarbeitungstechn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ße 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une 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utsche Gesetzgebu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Elektronikschrott?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Zusammensetz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Verwert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Produkt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terial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ßnahme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WEEE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gangsprachlich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enverarbeitungstechn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ße 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une 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utsche Gesetzgebu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s-, Büro-, Kommunikationsgerä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äte der Unterhaltungselektron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ushaltsgroßgerä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leingerä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icht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ustrieller E-Schro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Elektronikschrott?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Zusammensetz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Verwert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Produkt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terial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ßnahme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WEEE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Ende – immer endgült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ktion nicht mehr gegeb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ktion ist gegeb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Motivatio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Elektronikschrott?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Zusammensetz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Verwertu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Produkt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terialrecycl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Maßnahmen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WEEE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ROHS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Ende – immer endgült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ktion nicht mehr gegeb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lständiger Ausschu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tur zu aufwendig oder wird nicht erw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ktion ist gegeb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ügt Anforderungen nicht me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beschaffung wird vorgez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Jörg Ender 19.01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10:42:23Z</dcterms:created>
  <dc:creator>JE</dc:creator>
  <dc:description/>
  <dc:language>en-US</dc:language>
  <cp:lastModifiedBy>JE</cp:lastModifiedBy>
  <dcterms:modified xsi:type="dcterms:W3CDTF">2005-01-18T16:52:14Z</dcterms:modified>
  <cp:revision>12</cp:revision>
  <dc:subject/>
  <dc:title>GRÜNE ELEKTRONIK </dc:title>
</cp:coreProperties>
</file>