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6CE-6F2B-43EF-B903-72B2802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941-E036-4258-A969-1945E2DF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C54-A589-443B-8A71-A8F6843D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27D-A5B2-4E39-AB4D-DFA4AB5A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D69-392A-46C5-8169-5F59CF1B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7E4-E99F-4951-BE23-1ED42F2D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4D8-CF28-4C89-AB1F-F26621D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B27-43D4-4014-A3A7-FD0B8C6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437-DEBF-4735-8C0F-F2AC8FA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C63-002C-4C0D-AA27-8E73A33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81D-44CF-4099-8EA0-F566BCB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372-7154-44D0-BD97-3F0F71F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FEC2-55A8-4AB7-B3DD-050C4DF4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2344680" cy="31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692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zuwende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fisc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5445000"/>
            <a:ext cx="29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labor WS 04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Si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48428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2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lau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st EAG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 gibt es d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führung in EAGLE und Erstellen eines Schalt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924280"/>
            <a:ext cx="9144000" cy="244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1239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k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716280"/>
            <a:ext cx="27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chal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Schema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371628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tine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o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1844640"/>
            <a:ext cx="1440000" cy="1800360"/>
          </a:xfrm>
          <a:prstGeom prst="downArrow">
            <a:avLst>
              <a:gd name="adj1" fmla="val 50000"/>
              <a:gd name="adj2" fmla="val 312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st EAG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5300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20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uteilbiblioth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3716280"/>
            <a:ext cx="1511280" cy="719280"/>
          </a:xfrm>
          <a:prstGeom prst="rightArrow">
            <a:avLst>
              <a:gd name="adj1" fmla="val 50000"/>
              <a:gd name="adj2" fmla="val 52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89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 gibt es da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65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Windows- und Linuxsyst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sio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ght (kosten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gramm, Anleitung und Tutorial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adSoft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3961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halbes Europakarten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Top- und Bottom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 Blatt für den Schalt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4:20:09Z</dcterms:created>
  <dc:creator>Erik Simon</dc:creator>
  <dc:description/>
  <dc:language>en-US</dc:language>
  <cp:lastModifiedBy>Erik Simon</cp:lastModifiedBy>
  <dcterms:modified xsi:type="dcterms:W3CDTF">2004-11-09T11:49:28Z</dcterms:modified>
  <cp:revision>5</cp:revision>
  <dc:subject/>
  <dc:title>Folie 1</dc:title>
</cp:coreProperties>
</file>