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319F-CAC4-4EB3-B722-F5CC20453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4B3E-7DA3-4BC5-AFF0-509585D7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A745-3113-4829-84E4-CEFF251E6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3E2E-A79E-4AD7-9C88-6D4315AA0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B5E2-F1AA-43FC-9AB8-584C5E81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A6E1-8725-490B-BBF5-C7F4369A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2410-F127-41D7-9BD2-1356A9F03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BE08-3E02-4DD3-AB3C-37E29A12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86F7-5E29-432C-850F-C09E77C5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A6C9-9773-4A9A-A554-B71D5604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F584-7901-474E-A6FF-633E150B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CE47-49CD-4324-8CA6-4D92051E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A4BB-F097-4C1A-ABF2-7DC889180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schaltb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-Pix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27640" y="6237360"/>
            <a:ext cx="25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7280" y="64911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rnelius Wefelscheid, wefel@gmx.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s ist ein Blockschaltbil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21844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extremvereinfacht dargestel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ilsysteme werden in Blöcken zusammen gefas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ale werden als Linien gekennzeich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u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obleme Strukturi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ssere Übers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ufsplitten eines Projekts in Teilbereic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z.B. Ein- und Ausgab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in Blöcke untertei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öcke mit Signalen verbi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uf die Richtung der Signale acht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n der Eingabe zur Ausgabe durcharbe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er aus dem Kern hera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5003640" y="4292640"/>
            <a:ext cx="1293840" cy="1162080"/>
            <a:chOff x="5003640" y="4292640"/>
            <a:chExt cx="1293840" cy="1162080"/>
          </a:xfrm>
        </p:grpSpPr>
        <p:sp>
          <p:nvSpPr>
            <p:cNvPr id="52" name=""/>
            <p:cNvSpPr/>
            <p:nvPr/>
          </p:nvSpPr>
          <p:spPr>
            <a:xfrm>
              <a:off x="5003640" y="4292640"/>
              <a:ext cx="129384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tztei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03640" y="5086440"/>
              <a:ext cx="1293840" cy="368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IN / A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5651640" y="4724280"/>
              <a:ext cx="144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539640" y="692280"/>
            <a:ext cx="12956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56000" y="1773360"/>
            <a:ext cx="1295280" cy="642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riebs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1773360"/>
            <a:ext cx="1295640" cy="642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elle Farbwa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56000" y="2708280"/>
            <a:ext cx="129528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dpass /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2852640"/>
            <a:ext cx="1295640" cy="368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krof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35280" y="3068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35280" y="1916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35280" y="9079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03640" y="90792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320364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20000" y="1268280"/>
            <a:ext cx="1295280" cy="368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59280" y="1773360"/>
            <a:ext cx="129528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51280" y="1916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20000" y="2349360"/>
            <a:ext cx="1295280" cy="368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20000" y="1773360"/>
            <a:ext cx="1295280" cy="368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56360" y="1989000"/>
            <a:ext cx="792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56360" y="1989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156360" y="1484280"/>
            <a:ext cx="792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20000" y="476280"/>
            <a:ext cx="1295280" cy="642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/ Anzei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564000" y="90792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64000" y="90792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5877000"/>
            <a:ext cx="432000" cy="73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6093000"/>
            <a:ext cx="432000" cy="7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6308640"/>
            <a:ext cx="432000" cy="73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16000" y="5734080"/>
            <a:ext cx="11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16000" y="595008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ne Schaltung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6000" y="6165720"/>
            <a:ext cx="11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83" name=""/>
          <p:cNvSpPr/>
          <p:nvPr/>
        </p:nvSpPr>
        <p:spPr>
          <a:xfrm>
            <a:off x="539640" y="692280"/>
            <a:ext cx="12956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56000" y="1773360"/>
            <a:ext cx="1295280" cy="642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riebs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1773360"/>
            <a:ext cx="1295640" cy="642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elle Farbwa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56000" y="2708280"/>
            <a:ext cx="129528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dpass /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2852640"/>
            <a:ext cx="1295640" cy="368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krof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35280" y="3068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1916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5280" y="9079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3640" y="90792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20364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1268280"/>
            <a:ext cx="1295280" cy="368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59280" y="1773360"/>
            <a:ext cx="129528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51280" y="1916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20000" y="2349360"/>
            <a:ext cx="1295280" cy="368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20000" y="1773360"/>
            <a:ext cx="1295280" cy="368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56360" y="1989000"/>
            <a:ext cx="792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56360" y="1989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156360" y="1484280"/>
            <a:ext cx="792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020000" y="3068640"/>
            <a:ext cx="1295280" cy="368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inkl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20000" y="476280"/>
            <a:ext cx="1295280" cy="642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/ Anzei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564000" y="90792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64000" y="90792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32360" y="4292640"/>
            <a:ext cx="129528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zte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56000" y="3645000"/>
            <a:ext cx="136836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inkimpu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03640" y="3357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51640" y="3789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443640" y="3357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43640" y="335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32360" y="5084640"/>
            <a:ext cx="1295280" cy="368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N / A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580000" y="4723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5877000"/>
            <a:ext cx="432000" cy="73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6093000"/>
            <a:ext cx="432000" cy="7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6308640"/>
            <a:ext cx="432000" cy="73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16000" y="5734080"/>
            <a:ext cx="11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595008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ne Schaltung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6000" y="6165720"/>
            <a:ext cx="11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067280" y="3645000"/>
            <a:ext cx="1295280" cy="368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N / A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24360" y="3860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363640" y="378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23" name=""/>
          <p:cNvSpPr/>
          <p:nvPr/>
        </p:nvSpPr>
        <p:spPr>
          <a:xfrm>
            <a:off x="539640" y="692280"/>
            <a:ext cx="12956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56000" y="1773360"/>
            <a:ext cx="1295280" cy="642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riebs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1773360"/>
            <a:ext cx="1295640" cy="642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elle Farbwa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56000" y="2708280"/>
            <a:ext cx="129528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dpass /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2852640"/>
            <a:ext cx="1295640" cy="368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krof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35280" y="3068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35280" y="1916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9079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03640" y="90792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20364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20000" y="1268280"/>
            <a:ext cx="1295280" cy="368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1773360"/>
            <a:ext cx="129528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51280" y="1916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020000" y="2349360"/>
            <a:ext cx="1295280" cy="368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020000" y="1773360"/>
            <a:ext cx="1295280" cy="368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56360" y="1989000"/>
            <a:ext cx="792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56360" y="1989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156360" y="1484280"/>
            <a:ext cx="792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020000" y="3068640"/>
            <a:ext cx="1295280" cy="368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inkl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51280" y="2060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20000" y="476280"/>
            <a:ext cx="1295280" cy="642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/ Anzei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564000" y="90792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64000" y="90792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932360" y="4292640"/>
            <a:ext cx="129528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zte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580000" y="2204640"/>
            <a:ext cx="0" cy="208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3645000"/>
            <a:ext cx="136836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inkimpu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3640" y="3357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651640" y="3789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443640" y="3357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43640" y="335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932360" y="5084640"/>
            <a:ext cx="1295280" cy="368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N / A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580000" y="4723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724360" y="3860640"/>
            <a:ext cx="0" cy="43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24360" y="3213000"/>
            <a:ext cx="0" cy="503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24360" y="3213000"/>
            <a:ext cx="1224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050920" y="4508640"/>
            <a:ext cx="2881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050920" y="3141360"/>
            <a:ext cx="0" cy="1366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050920" y="1988640"/>
            <a:ext cx="0" cy="1008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050920" y="1267920"/>
            <a:ext cx="0" cy="576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050920" y="3213000"/>
            <a:ext cx="505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86920" y="2637000"/>
            <a:ext cx="86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187280" y="2421000"/>
            <a:ext cx="0" cy="21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1115640" y="1268280"/>
            <a:ext cx="93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116000" y="1052280"/>
            <a:ext cx="0" cy="21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9640" y="5589720"/>
            <a:ext cx="432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16000" y="544500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omversorg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9640" y="5877000"/>
            <a:ext cx="432000" cy="73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6093000"/>
            <a:ext cx="432000" cy="7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9640" y="6308640"/>
            <a:ext cx="432000" cy="73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16000" y="5734080"/>
            <a:ext cx="11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6000" y="595008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ne Schaltung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6000" y="6165720"/>
            <a:ext cx="11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67280" y="3645000"/>
            <a:ext cx="1295280" cy="368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N / A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24360" y="3860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5364000" y="3789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79" name=""/>
          <p:cNvSpPr/>
          <p:nvPr/>
        </p:nvSpPr>
        <p:spPr>
          <a:xfrm>
            <a:off x="539640" y="692280"/>
            <a:ext cx="129564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1773360"/>
            <a:ext cx="129528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riebs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9640" y="1773360"/>
            <a:ext cx="129564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elle Farbwa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56000" y="2708280"/>
            <a:ext cx="12952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dpass /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9640" y="2852640"/>
            <a:ext cx="129564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krof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35280" y="3068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5280" y="1916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35280" y="9079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03640" y="90792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20364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20000" y="1268280"/>
            <a:ext cx="129528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59280" y="1773360"/>
            <a:ext cx="129528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51280" y="1916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020000" y="2349360"/>
            <a:ext cx="129528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20000" y="1773360"/>
            <a:ext cx="129528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156360" y="1989000"/>
            <a:ext cx="792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56360" y="1989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156360" y="1484280"/>
            <a:ext cx="792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020000" y="3068640"/>
            <a:ext cx="12952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inkl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51280" y="2060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020000" y="476280"/>
            <a:ext cx="129528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/ Anzei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564000" y="90792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564000" y="90792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932360" y="4292640"/>
            <a:ext cx="1295280" cy="36828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zte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580000" y="2204640"/>
            <a:ext cx="0" cy="208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56000" y="3645000"/>
            <a:ext cx="136836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inkimpu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3640" y="3357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651640" y="3789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6443640" y="3357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43640" y="335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2360" y="5084640"/>
            <a:ext cx="1295280" cy="36828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N / A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580000" y="4723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5724360" y="3860640"/>
            <a:ext cx="0" cy="43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5724360" y="3213000"/>
            <a:ext cx="0" cy="503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4360" y="3213000"/>
            <a:ext cx="1224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0920" y="4508640"/>
            <a:ext cx="2881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050920" y="3141360"/>
            <a:ext cx="0" cy="1366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050920" y="1988640"/>
            <a:ext cx="0" cy="1008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050920" y="1267920"/>
            <a:ext cx="0" cy="576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050920" y="3213000"/>
            <a:ext cx="505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1186920" y="2637000"/>
            <a:ext cx="86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1187280" y="2421000"/>
            <a:ext cx="0" cy="21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1115640" y="1268280"/>
            <a:ext cx="93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116000" y="1052280"/>
            <a:ext cx="0" cy="21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9640" y="5373720"/>
            <a:ext cx="432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16000" y="522936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omversorg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9640" y="5877000"/>
            <a:ext cx="432000" cy="73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6000" y="5734080"/>
            <a:ext cx="11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upp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67280" y="3645000"/>
            <a:ext cx="12952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N / A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24360" y="3860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5364000" y="3789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9640" y="6093000"/>
            <a:ext cx="432000" cy="72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16000" y="5950080"/>
            <a:ext cx="11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upp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6308640"/>
            <a:ext cx="432000" cy="73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16000" y="6165720"/>
            <a:ext cx="11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upp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39640" y="6524640"/>
            <a:ext cx="432000" cy="7308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116000" y="6381720"/>
            <a:ext cx="18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uppe 4 (Gehäuse Bau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2T09:26:16Z</dcterms:created>
  <dc:creator>Corny</dc:creator>
  <dc:description/>
  <dc:language>en-US</dc:language>
  <cp:lastModifiedBy>Corny</cp:lastModifiedBy>
  <dcterms:modified xsi:type="dcterms:W3CDTF">2004-10-26T16:42:15Z</dcterms:modified>
  <cp:revision>13</cp:revision>
  <dc:subject/>
  <dc:title>Blockschaltbild</dc:title>
</cp:coreProperties>
</file>