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10A-4B27-4A46-8BF2-D6FA33A4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2E3-6052-4C5E-AEB7-4C9A3FA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C89-6E3C-49E7-9433-8157865A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8C1-0F4A-4245-99FF-196A5A76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4A7-4596-4F6E-BF78-D96BCEE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E94-0E8E-4FC8-962F-9705D7F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47F-5471-411E-9224-493A020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CD8-DDF4-4892-9E39-86B82742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657-263F-4C4E-8008-C5FEA841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3B8-E368-4A32-9AF4-3724ACD6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BB6-FDB1-4878-A0C8-F7B19DE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3C7-113E-4E0A-A508-B5D48E5A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3D43-339A-45C8-B835-6F992A3E9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lockschaltb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1000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7894_bild1_din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90720" y="1981080"/>
            <a:ext cx="7315200" cy="34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129-150A-4928-A7C0-8A468D5967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orte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zeigt eine Übersicht de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eilt ein komplexes System in Teilsysteme 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überschaubare Plä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keine Kenntnis der quantitativen Zusammenhänge notwen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rägt zum Verständnis des Systems b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A0C-8CA7-4CA4-B57A-0B97509C52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fini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as Blockschaltbild beschreibt die Struktur des betrachteten dynamischen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as Blockschaltbild ist eine graphische Darstellung des Signalflu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483-9022-4504-B91D-88D410158E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fini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66"/>
                </a:solidFill>
                <a:latin typeface="Tahoma"/>
                <a:ea typeface="Arial"/>
              </a:rPr>
              <a:t>	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  <a:ea typeface="Arial"/>
              </a:rPr>
              <a:t>Ein Blockschaltbild bestimmt das Zusammenspiel der Teilsysteme zum resultierenden Verhalten des komplexen Gesamtsystems.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  <a:ea typeface="Tahoma"/>
              </a:rPr>
              <a:t>Blockschaltbilder werden als Wirkungs-schema oder Strukturbild bezeich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62B-3DE4-46DB-B37B-46483EAB5C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le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  <a:ea typeface="Tahoma"/>
              </a:rPr>
              <a:t>Pfeile stellen zeitlich veränderliche Größen und Signale 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ahoma"/>
                <a:ea typeface="Tahoma"/>
              </a:rPr>
              <a:t>Blöcke stellen Ver-arbeitungseinheiten dar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209680"/>
            <a:ext cx="685800" cy="57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62040" y="232416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62040" y="266688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249408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6080" y="3325680"/>
            <a:ext cx="114120" cy="114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14400" y="337500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0200" y="337500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441520" y="343980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0160" y="495936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0160" y="4616280"/>
            <a:ext cx="57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0160" y="461628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63360" y="4786200"/>
            <a:ext cx="4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E68-D48E-4DB6-A180-C39F8A7037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ichtig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lockschaltbilder haben eine eindeutige Wirkungsrichtung (Pfeilrichtung der Ein- und Ausgangssignale)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Jedes Blockschaltbild hat mindestens ein Eingangssignal und mindestens ein Ausgangssigna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77C-21A7-480C-AE5A-1D841BDBF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Entwicklung eines Blockschaltbild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eschreibung des Zi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uswahl der Modellannah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Beschreibung der Regelstrec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ufstellung des Blockschaltbil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labor "Blockschaltbilder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212-E080-4A43-A587-D389EAEFED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7.10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2:15:09Z</dcterms:created>
  <dc:creator>Jan Quast</dc:creator>
  <dc:description/>
  <dc:language>en-US</dc:language>
  <cp:lastModifiedBy>Jan Quast</cp:lastModifiedBy>
  <dcterms:modified xsi:type="dcterms:W3CDTF">2005-01-13T19:00:47Z</dcterms:modified>
  <cp:revision>4</cp:revision>
  <dc:subject/>
  <dc:title>Blockschaltbilder</dc:title>
</cp:coreProperties>
</file>